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E33-E412-489F-9638-D2FC821D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719-6302-4CE2-B310-2184655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2F0-F480-4930-B262-F4398ADD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E9B-5266-4A0B-BE03-C9F7A515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5E0-A244-49B0-82FF-92D7781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1DA-7430-457F-A7E8-3413FBF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564-24E6-4A72-9A56-5596B46B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58E-281B-4F8A-9E79-8BD558D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C42-8C77-49DC-AE4E-2AA284E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8CF-2DA4-4430-A9D7-52AA4A98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1F8-4209-4276-9CD5-4324805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96A-042A-498D-B4F8-6EA0066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BFF-03E2-49A0-84FA-CCB14D51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Make whatever kind of homemade cupcakes you would like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hoose whatever wristwatch you want for your birthday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 sailboat got caught on a sandba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omorrow we will eat buttermilk pancakes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believe he caught the baseball in the outfield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atever happened to the flashlight Dad bought at the drugstor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he airplane finally took off after sitting on the runway for twenty minutes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We couldn’t play volleyball today because there was a downpour that flooded the court.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y aunt will serve oatmeal and applesauce tomorrow morning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The fruitcake has been in the cupboard since November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got a postcard today from my grandmoth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Arial"/>
              </a:rPr>
              <a:t>We will finally get the goldfish sometime tomorrow.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Hailey caught a grasshopper in the backyard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believe Jason made the snowman himself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Meg has been looking for seashells and starfish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Today, we watched a tugboat from the riverbank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I believe that Kim and Ned have been playing basketball in the driveway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e sunshine finally came out after the rainstorm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teacher</cp:lastModifiedBy>
  <dcterms:modified xsi:type="dcterms:W3CDTF">2010-11-14T02:28:16Z</dcterms:modified>
  <cp:revision>33</cp:revision>
  <dc:subject/>
  <dc:title>He is always happy.</dc:title>
</cp:coreProperties>
</file>